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0ACF-2004-42FE-B86D-5BC9DE2D5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76C2-AA6B-4494-8076-2299DBF96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458F-98DA-4762-BD6A-756EA68B2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6917-4906-4D24-A517-70AE39D9C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9587-0AF5-462B-B502-EDB6CE1D7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3D44-669F-4930-A8CC-B1699B6CF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33F8-4A58-400A-832E-FA132C510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7591-46BB-4416-9D48-5FE5ED381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C7C2-7436-4C1D-ACC4-267658DBB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9081-46BC-4FA7-A97F-E3BB20FE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0351-4F13-4771-8C81-15A5AF39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4D90-326D-4083-85BF-23E812BA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688CA-E4DA-4D34-80D6-239A191C5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4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3733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ter cyc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y: Michael Bagb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71600" y="5027760"/>
            <a:ext cx="2895480" cy="1830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267080" y="5027760"/>
            <a:ext cx="2895840" cy="18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3733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ter cyc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y: Michael Bagb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4608360"/>
            <a:ext cx="3557520" cy="2249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191120" y="4608360"/>
            <a:ext cx="3557520" cy="2249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flipV="1">
            <a:off x="2895480" y="46483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5486400" y="47239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76720" y="45720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p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3733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ter cyc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y: Michael Bagb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4608360"/>
            <a:ext cx="3557520" cy="2249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91120" y="4608360"/>
            <a:ext cx="3557520" cy="2249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 flipV="1">
            <a:off x="2895480" y="46483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86400" y="47239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45720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p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438280" y="1828800"/>
            <a:ext cx="2109960" cy="1565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4495680" y="1828800"/>
            <a:ext cx="2057400" cy="1527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4952880" y="380880"/>
            <a:ext cx="2057400" cy="1527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5715000" y="1143000"/>
            <a:ext cx="2057400" cy="1527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3581280" y="304920"/>
            <a:ext cx="2057400" cy="1527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4952880" y="2743200"/>
            <a:ext cx="2057400" cy="1527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9"/>
          <a:stretch/>
        </p:blipFill>
        <p:spPr>
          <a:xfrm>
            <a:off x="6781680" y="1447920"/>
            <a:ext cx="2057400" cy="1527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 flipH="1" flipV="1">
            <a:off x="8152920" y="365724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7315200" y="3809520"/>
            <a:ext cx="457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162920" y="34290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i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0"/>
          <a:stretch/>
        </p:blipFill>
        <p:spPr>
          <a:xfrm>
            <a:off x="7772400" y="4648320"/>
            <a:ext cx="676440" cy="9525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1"/>
          <a:stretch/>
        </p:blipFill>
        <p:spPr>
          <a:xfrm>
            <a:off x="8467560" y="4648320"/>
            <a:ext cx="67644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3733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ter cyc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y: Michael Bagb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5800" y="4608360"/>
            <a:ext cx="3557520" cy="2249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191120" y="4608360"/>
            <a:ext cx="3557520" cy="22496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flipV="1">
            <a:off x="2895480" y="46483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86400" y="47239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76720" y="45720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p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438280" y="1828800"/>
            <a:ext cx="2109960" cy="15652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4495680" y="1828800"/>
            <a:ext cx="2057400" cy="1527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4952880" y="380880"/>
            <a:ext cx="2057400" cy="1527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5715000" y="1143000"/>
            <a:ext cx="2057400" cy="1527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7"/>
          <a:stretch/>
        </p:blipFill>
        <p:spPr>
          <a:xfrm>
            <a:off x="3581280" y="304920"/>
            <a:ext cx="2057400" cy="1527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8"/>
          <a:stretch/>
        </p:blipFill>
        <p:spPr>
          <a:xfrm>
            <a:off x="4952880" y="2743200"/>
            <a:ext cx="2057400" cy="1527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9"/>
          <a:stretch/>
        </p:blipFill>
        <p:spPr>
          <a:xfrm>
            <a:off x="6781680" y="1447920"/>
            <a:ext cx="2057400" cy="15271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 flipH="1" flipV="1">
            <a:off x="8152920" y="365724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7315200" y="3809520"/>
            <a:ext cx="457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34290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i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666880" y="11430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den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57600" y="137160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62520" y="152388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0"/>
          <a:stretch/>
        </p:blipFill>
        <p:spPr>
          <a:xfrm>
            <a:off x="8467560" y="4648320"/>
            <a:ext cx="676440" cy="9525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1"/>
          <a:stretch/>
        </p:blipFill>
        <p:spPr>
          <a:xfrm>
            <a:off x="7696080" y="4648320"/>
            <a:ext cx="67644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3733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ter cyc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y: Michael Bagb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85800" y="4608360"/>
            <a:ext cx="3557520" cy="2249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191120" y="4608360"/>
            <a:ext cx="3557520" cy="22496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 flipV="1">
            <a:off x="2895480" y="46483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5486400" y="47239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76720" y="45720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p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438280" y="1828800"/>
            <a:ext cx="2109960" cy="1565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4495680" y="1828800"/>
            <a:ext cx="2057400" cy="1527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4952880" y="380880"/>
            <a:ext cx="2057400" cy="1527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5715000" y="1143000"/>
            <a:ext cx="2057400" cy="1527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3581280" y="304920"/>
            <a:ext cx="2057400" cy="1527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8"/>
          <a:stretch/>
        </p:blipFill>
        <p:spPr>
          <a:xfrm>
            <a:off x="4952880" y="2743200"/>
            <a:ext cx="2057400" cy="1527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9"/>
          <a:stretch/>
        </p:blipFill>
        <p:spPr>
          <a:xfrm>
            <a:off x="6781680" y="1447920"/>
            <a:ext cx="2057400" cy="15271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 flipH="1" flipV="1">
            <a:off x="8152920" y="365724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7315200" y="3809520"/>
            <a:ext cx="457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162920" y="34290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i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666880" y="11430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den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137160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62520" y="152388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90920" y="2362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29000" y="2666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38280" y="3048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ip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0"/>
          <a:stretch/>
        </p:blipFill>
        <p:spPr>
          <a:xfrm>
            <a:off x="7696080" y="4800600"/>
            <a:ext cx="676440" cy="9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1"/>
          <a:stretch/>
        </p:blipFill>
        <p:spPr>
          <a:xfrm>
            <a:off x="8467560" y="4800600"/>
            <a:ext cx="67644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3733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ter cyc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y: Michael Bagb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752480" y="5138640"/>
            <a:ext cx="2719440" cy="1719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343400" y="4978440"/>
            <a:ext cx="2971800" cy="18795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 flipV="1">
            <a:off x="2895480" y="46483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486400" y="47239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45720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p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2438280" y="1828800"/>
            <a:ext cx="2109960" cy="15652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4495680" y="1828800"/>
            <a:ext cx="2057400" cy="1527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4952880" y="380880"/>
            <a:ext cx="2057400" cy="1527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5715000" y="1143000"/>
            <a:ext cx="2057400" cy="1527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7"/>
          <a:stretch/>
        </p:blipFill>
        <p:spPr>
          <a:xfrm>
            <a:off x="3657600" y="152280"/>
            <a:ext cx="2057400" cy="1527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4952880" y="2743200"/>
            <a:ext cx="2057400" cy="1527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9"/>
          <a:stretch/>
        </p:blipFill>
        <p:spPr>
          <a:xfrm>
            <a:off x="7086600" y="457200"/>
            <a:ext cx="2057400" cy="15271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 flipH="1" flipV="1">
            <a:off x="8152920" y="365724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7315200" y="3809520"/>
            <a:ext cx="457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162920" y="34290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i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666880" y="11430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den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657600" y="137160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62520" y="152388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90920" y="2362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2666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438280" y="3048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ip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0"/>
          <a:stretch/>
        </p:blipFill>
        <p:spPr>
          <a:xfrm>
            <a:off x="228600" y="1905120"/>
            <a:ext cx="2057400" cy="1527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11"/>
          <a:stretch/>
        </p:blipFill>
        <p:spPr>
          <a:xfrm>
            <a:off x="0" y="4648320"/>
            <a:ext cx="1752480" cy="13017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295280" y="45720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-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33526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3880" y="3429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2"/>
          <a:stretch/>
        </p:blipFill>
        <p:spPr>
          <a:xfrm>
            <a:off x="8305920" y="5181480"/>
            <a:ext cx="676080" cy="9525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3"/>
          <a:stretch/>
        </p:blipFill>
        <p:spPr>
          <a:xfrm>
            <a:off x="7620120" y="5181480"/>
            <a:ext cx="676080" cy="9525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4"/>
          <a:stretch/>
        </p:blipFill>
        <p:spPr>
          <a:xfrm>
            <a:off x="7238880" y="152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666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3T14:52:27Z</dcterms:created>
  <dc:creator>USD376</dc:creator>
  <dc:description/>
  <dc:language>en-US</dc:language>
  <cp:lastModifiedBy>USD376</cp:lastModifiedBy>
  <dcterms:modified xsi:type="dcterms:W3CDTF">2012-01-05T14:55:27Z</dcterms:modified>
  <cp:revision>5</cp:revision>
  <dc:subject/>
  <dc:title>Slide 1</dc:title>
</cp:coreProperties>
</file>